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D1D-674B-4BEE-896D-08EE40D3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9B8-B3F3-4777-83AB-BD265E4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5F0-766D-480A-AE21-A2C2C89F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2B0-7D5D-44C1-B8E2-C9E2A1A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1EF-A3EF-4B4B-B717-85A3CBC3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7580-D5EE-49ED-87A4-C5B1749E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5A00-0EDD-432D-8718-BEF61502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A2D0-01A1-4781-8FA7-A3171AF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F76-C706-4848-9320-CFC481DE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084-78A0-4D01-ABE6-E1E0DB7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6D3A-C498-46CF-BC6B-C75B566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064-7119-4807-9752-A8AC5F0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368-0435-4765-BE2E-574C129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B7DF-D5DF-4621-A701-4762473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25E-E045-4503-A020-A958BEAD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959-5A54-4E56-ADF6-CF783921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5E6A-6ECE-4FD6-B4C9-EBEC1537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ED4-3F8E-45C4-B60F-DAABB2D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92F-1B2D-4523-8653-281D201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3E3-902F-4554-8717-DB7C712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D12-2E55-40EE-8645-6D1B2D7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CFC-620D-4F6C-8D8F-11F9140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196-3AFA-4499-850D-D716F08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8CF-1710-4962-8FD2-391CC86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47D-464D-44DF-A17B-C6582DA38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D89-EF43-46F6-9BC2-50522488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189000"/>
            <a:ext cx="806616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RROTOA,ODOLA E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LKOAK.HERIOTZATI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ES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9280" y="404640"/>
            <a:ext cx="89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zarpen eta halakoen ondorioz nora ihes egin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1268280"/>
            <a:ext cx="720108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skerrik asko entzuteagat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2 TALDEA:Maider Biguri, Ander Febrer, Alex de la fuente,Laura Martinez, Mikel Cardenas eta Julen Winterbot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58920" y="549360"/>
            <a:ext cx="7056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GERRAR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RAZO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68360" y="549360"/>
            <a:ext cx="472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k irabazi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627280" y="549360"/>
            <a:ext cx="3676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raren ondorioa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68360" y="549360"/>
            <a:ext cx="4686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zuk borrokatu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700360" y="620640"/>
            <a:ext cx="4000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 da gerra zibil bat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24000" y="549360"/>
            <a:ext cx="48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nbat iraun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476280"/>
            <a:ext cx="773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emakumeen papera gerra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55640" y="476280"/>
            <a:ext cx="79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lde bakoitzean zer alde politiko zeud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1Z</dcterms:created>
  <dc:creator>ik015111zz</dc:creator>
  <dc:description/>
  <dc:language>en-US</dc:language>
  <cp:lastModifiedBy>luis trabajo de informatica</cp:lastModifiedBy>
  <dcterms:modified xsi:type="dcterms:W3CDTF">2012-05-17T12:40:03Z</dcterms:modified>
  <cp:revision>3</cp:revision>
  <dc:subject/>
  <dc:title>Diapositiva 1</dc:title>
</cp:coreProperties>
</file>